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88F3-23C5-4B8E-8421-AFC1AA0E25C3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CB76-5518-455B-A66E-59245C515E4B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BD0-4E72-492F-A095-CF1E80B9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AE0-9CCC-4C1A-9849-F1350601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5FFF-8410-4515-B9B2-B974BF82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6351-A6F4-453B-A5DD-16CA7B4F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320-F81F-4E98-997C-29B5C636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6ACA-06E7-4D93-AED6-27BDD1E3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6BE-FCCE-4AEE-80FE-44CC0A81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2FB-35CA-4B71-AAA3-85FFD96C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3C98-1832-4AFB-AB51-C8BAC097B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CB8-6A25-4EDE-A279-C463997A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557-4E00-4F3B-942A-8988F2C6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0FA-973D-4B0B-8295-89D0DDEB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472C-9DF2-4F4C-93CF-298EA62A9C41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ızın haykıracağım san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ur cuburlar, sağlığa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rarlıdı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i kitabı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a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d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ın saçları dalgalanıyor rüzgârd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bam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brikada çok yoruluyo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şamlardan, gecelerden, senden uzağım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Çocuk, annesine özlemle sarıl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14200"/>
          <a:ext cx="8715600" cy="63579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rılık, her şeyden yamandır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Çatıdan tıkırtılar geliyor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şka akıllar bize yüktür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Zabıta, simitçiye göz açtırmaz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abamız, yolda zor ilerliyor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l bir </a:t>
            </a:r>
            <a:br>
              <a:rPr sz="9000"/>
            </a:br>
            <a:r>
              <a:rPr b="1" lang="es-ES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ta </a:t>
            </a:r>
            <a:br>
              <a:rPr sz="9000"/>
            </a:br>
            <a:r>
              <a:rPr b="1" lang="es-ES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binmiş</a:t>
            </a: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ömlek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a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kışmı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vin önünde asırlık bir dut ağacı vardı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de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akkabı boyası kalmamı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rabaya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koştu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çocuklar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ağı kayınca yere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üşmüş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66ff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dın </a:t>
            </a:r>
            <a:br>
              <a:rPr sz="9000"/>
            </a:br>
            <a:r>
              <a:rPr b="1" lang="tr-TR" sz="9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yazılacak mücevher taşa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nın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zeyine </a:t>
            </a:r>
            <a:br>
              <a:rPr sz="9000"/>
            </a:br>
            <a:r>
              <a:rPr b="1" lang="tr-TR" sz="9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ti.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9:03:46Z</dcterms:modified>
  <cp:revision>136</cp:revision>
  <dc:subject/>
  <dc:title>KONU 1</dc:title>
</cp:coreProperties>
</file>